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arrow.wav" ContentType="audio/x-wav"/>
  <Override PartName="/ppt/media/bomb.wav" ContentType="audio/x-wav"/>
  <Override PartName="/ppt/media/image20.png" ContentType="image/png"/>
  <Override PartName="/ppt/media/image2.png" ContentType="image/png"/>
  <Override PartName="/ppt/media/suction.wav" ContentType="audio/x-wav"/>
  <Override PartName="/ppt/media/image2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7.png" ContentType="image/png"/>
  <Override PartName="/ppt/media/click.wav" ContentType="audio/x-wav"/>
  <Override PartName="/ppt/media/image24.png" ContentType="image/png"/>
  <Override PartName="/ppt/media/image8.png" ContentType="image/png"/>
  <Override PartName="/ppt/media/image26.png" ContentType="image/png"/>
  <Override PartName="/ppt/media/image3.png" ContentType="image/png"/>
  <Override PartName="/ppt/media/image28.png" ContentType="image/png"/>
  <Override PartName="/ppt/media/image5.png" ContentType="image/png"/>
  <Override PartName="/ppt/media/image29.png" ContentType="image/png"/>
  <Override PartName="/ppt/media/image6.png" ContentType="image/png"/>
  <Override PartName="/ppt/media/image17.png" ContentType="image/png"/>
  <Override PartName="/ppt/media/image18.png" ContentType="image/png"/>
  <Override PartName="/ppt/media/type.wav" ContentType="audio/x-wav"/>
  <Override PartName="/ppt/media/camera.wav" ContentType="audio/x-wav"/>
  <Override PartName="/ppt/media/image22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1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30.png" ContentType="image/png"/>
  <Override PartName="/ppt/media/voltag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6BF5-CE09-4BE6-A47F-45782BEF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0DF-A1B4-4B18-898E-46553A43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EF1-E53C-4297-9E3B-A90CAA6A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9535-A61D-4796-B483-335106A5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BE2D-33C2-4711-8627-2E7A6953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39C6-ECEB-4DA1-ADFC-F6BA6168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E1D3-A0DD-496A-98FD-322034FF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EE3E-A7B5-43E5-90BD-B7F728CE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473F-D928-4880-B52D-016C53CD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EE15-6075-41AA-8B4F-CEC67A35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157F-81F3-4FB2-88ED-23522F66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6FAE-C469-4A31-8200-71B70DD5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98BE-2977-41C3-9B94-BE0B1524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2AEF-9FD6-4CA7-B5F8-83155063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AC19-6C00-4648-ACF6-7EDBE721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0367-C313-4CF6-90D6-45F9A95D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123A-A322-473E-9FB0-B97FB5B7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C24-E657-4987-9AFC-CF5A486F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5740-6896-4283-A40C-E507797A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C830-FA2A-4B58-AD49-FFD808AC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04E-367A-4CC5-BC63-14F51DDA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25D-D50C-4CB6-82A3-C86BBDAA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BC10-DAF7-46C8-A7B1-7A6A1260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808B-EAA1-4984-ACE1-E0871C9E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1C33-66AF-4860-B1BE-73B0D844E6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411C-3DFF-4EF4-9BD5-FC558C77D1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audio" Target="../media/camera.wav"/><Relationship Id="rId7" Type="http://schemas.openxmlformats.org/officeDocument/2006/relationships/audio" Target="../media/suction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audio" Target="../media/suction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audio" Target="../media/bomb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suction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bomb.wav"/><Relationship Id="rId9" Type="http://schemas.openxmlformats.org/officeDocument/2006/relationships/audio" Target="../media/click.wav"/><Relationship Id="rId10" Type="http://schemas.openxmlformats.org/officeDocument/2006/relationships/audio" Target="../media/type.wav"/><Relationship Id="rId11" Type="http://schemas.openxmlformats.org/officeDocument/2006/relationships/audio" Target="../media/click.wav"/><Relationship Id="rId12" Type="http://schemas.openxmlformats.org/officeDocument/2006/relationships/audio" Target="../media/type.wav"/><Relationship Id="rId13" Type="http://schemas.openxmlformats.org/officeDocument/2006/relationships/audio" Target="../media/click.wav"/><Relationship Id="rId14" Type="http://schemas.openxmlformats.org/officeDocument/2006/relationships/audio" Target="../media/type.wav"/><Relationship Id="rId15" Type="http://schemas.openxmlformats.org/officeDocument/2006/relationships/audio" Target="../media/click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audio" Target="../media/camera.wav"/><Relationship Id="rId6" Type="http://schemas.openxmlformats.org/officeDocument/2006/relationships/audio" Target="../media/voltage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camera.wav"/><Relationship Id="rId6" Type="http://schemas.openxmlformats.org/officeDocument/2006/relationships/audio" Target="../media/voltage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audio" Target="../media/camera.wav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ewton’s First La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3886200"/>
            <a:ext cx="84960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 at rest will stay at rest, and an object in motion wi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y in motion in a constant speed and direction, unl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ed upon by an outside fo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62373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kaisha S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kaisha Station – Guest Quart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841480" y="1676520"/>
            <a:ext cx="34610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Guest Are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27360" y="1676520"/>
            <a:ext cx="36878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Gravitic Pa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4194000" cy="4219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700360" y="3860640"/>
            <a:ext cx="4194000" cy="1947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9325080" y="2133720"/>
            <a:ext cx="2952720" cy="1936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9252000" y="3357720"/>
            <a:ext cx="2952720" cy="981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6" name="camera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animMotion origin="layout" path="M 0 -9.25283E-007 L -0.56319 0.00578 E">
                                      <p:cBhvr>
                                        <p:cTn id="219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animMotion origin="layout" path="M -3.88889E-006 -1.72103E-006 L -0.53941 0.00185 E">
                                      <p:cBhvr>
                                        <p:cTn id="243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Dock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042920" y="1676520"/>
            <a:ext cx="705636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87280" y="1773360"/>
            <a:ext cx="1152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189080" y="1676520"/>
            <a:ext cx="676440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052640" y="1676520"/>
            <a:ext cx="703728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Magellan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720800" y="1676520"/>
            <a:ext cx="570060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771640" y="6165720"/>
            <a:ext cx="1513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-108000" y="1268280"/>
            <a:ext cx="5040360" cy="5329440"/>
            <a:chOff x="-108000" y="1268280"/>
            <a:chExt cx="5040360" cy="5329440"/>
          </a:xfrm>
        </p:grpSpPr>
        <p:sp>
          <p:nvSpPr>
            <p:cNvPr id="87" name=""/>
            <p:cNvSpPr/>
            <p:nvPr/>
          </p:nvSpPr>
          <p:spPr>
            <a:xfrm>
              <a:off x="179280" y="1700280"/>
              <a:ext cx="4392720" cy="4392720"/>
            </a:xfrm>
            <a:prstGeom prst="ellipse">
              <a:avLst/>
            </a:prstGeom>
            <a:noFill/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71640" y="2492280"/>
              <a:ext cx="2881080" cy="2881440"/>
            </a:xfrm>
            <a:prstGeom prst="ellipse">
              <a:avLst/>
            </a:prstGeom>
            <a:noFill/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411280" y="5661000"/>
              <a:ext cx="0" cy="93672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11280" y="1268280"/>
              <a:ext cx="0" cy="165600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421164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-10800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050920" y="3860640"/>
              <a:ext cx="720720" cy="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411280" y="3500280"/>
              <a:ext cx="0" cy="720720"/>
            </a:xfrm>
            <a:prstGeom prst="line">
              <a:avLst/>
            </a:prstGeom>
            <a:ln w="57240">
              <a:solidFill>
                <a:srgbClr val="b7e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154680" cy="44226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2987640" y="4076640"/>
            <a:ext cx="2233800" cy="441360"/>
            <a:chOff x="2987640" y="4076640"/>
            <a:chExt cx="2233800" cy="441360"/>
          </a:xfrm>
        </p:grpSpPr>
        <p:sp>
          <p:nvSpPr>
            <p:cNvPr id="98" name=""/>
            <p:cNvSpPr/>
            <p:nvPr/>
          </p:nvSpPr>
          <p:spPr>
            <a:xfrm>
              <a:off x="3492360" y="414972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uest modu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2987640" y="4076640"/>
              <a:ext cx="5047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771640" y="2276640"/>
            <a:ext cx="2160720" cy="368280"/>
            <a:chOff x="2771640" y="2276640"/>
            <a:chExt cx="2160720" cy="368280"/>
          </a:xfrm>
        </p:grpSpPr>
        <p:sp>
          <p:nvSpPr>
            <p:cNvPr id="101" name=""/>
            <p:cNvSpPr/>
            <p:nvPr/>
          </p:nvSpPr>
          <p:spPr>
            <a:xfrm>
              <a:off x="3276720" y="227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ff mod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771640" y="2492280"/>
              <a:ext cx="503280" cy="73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71280" y="1773360"/>
            <a:ext cx="2305440" cy="431640"/>
            <a:chOff x="2771280" y="1773360"/>
            <a:chExt cx="2305440" cy="431640"/>
          </a:xfrm>
        </p:grpSpPr>
        <p:sp>
          <p:nvSpPr>
            <p:cNvPr id="104" name=""/>
            <p:cNvSpPr/>
            <p:nvPr/>
          </p:nvSpPr>
          <p:spPr>
            <a:xfrm>
              <a:off x="3132000" y="177336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rol mod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771280" y="1989000"/>
              <a:ext cx="36036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555640" y="1341360"/>
            <a:ext cx="1511640" cy="432000"/>
            <a:chOff x="2555640" y="1341360"/>
            <a:chExt cx="1511640" cy="432000"/>
          </a:xfrm>
        </p:grpSpPr>
        <p:sp>
          <p:nvSpPr>
            <p:cNvPr id="107" name=""/>
            <p:cNvSpPr/>
            <p:nvPr/>
          </p:nvSpPr>
          <p:spPr>
            <a:xfrm>
              <a:off x="2700360" y="1341360"/>
              <a:ext cx="13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BD Arra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555640" y="1557360"/>
              <a:ext cx="1429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116000" y="1773360"/>
            <a:ext cx="1224000" cy="851400"/>
            <a:chOff x="1116000" y="1773360"/>
            <a:chExt cx="1224000" cy="851400"/>
          </a:xfrm>
        </p:grpSpPr>
        <p:sp>
          <p:nvSpPr>
            <p:cNvPr id="110" name=""/>
            <p:cNvSpPr/>
            <p:nvPr/>
          </p:nvSpPr>
          <p:spPr>
            <a:xfrm>
              <a:off x="1116000" y="177336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nsor wel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31760" y="2412720"/>
              <a:ext cx="408240" cy="212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492360" y="2708280"/>
            <a:ext cx="1584000" cy="580680"/>
            <a:chOff x="3492360" y="2708280"/>
            <a:chExt cx="1584000" cy="580680"/>
          </a:xfrm>
        </p:grpSpPr>
        <p:grpSp>
          <p:nvGrpSpPr>
            <p:cNvPr id="113" name=""/>
            <p:cNvGrpSpPr/>
            <p:nvPr/>
          </p:nvGrpSpPr>
          <p:grpSpPr>
            <a:xfrm>
              <a:off x="3492360" y="2708280"/>
              <a:ext cx="1584000" cy="580680"/>
              <a:chOff x="3492360" y="2708280"/>
              <a:chExt cx="1584000" cy="580680"/>
            </a:xfrm>
          </p:grpSpPr>
          <p:sp>
            <p:nvSpPr>
              <p:cNvPr id="114" name=""/>
              <p:cNvSpPr/>
              <p:nvPr/>
            </p:nvSpPr>
            <p:spPr>
              <a:xfrm>
                <a:off x="3889080" y="2708280"/>
                <a:ext cx="1187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rydock modul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3492360" y="3079800"/>
                <a:ext cx="39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H="1">
              <a:off x="3492360" y="3080160"/>
              <a:ext cx="44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435640" y="1268280"/>
            <a:ext cx="3708360" cy="5331240"/>
          </a:xfrm>
          <a:prstGeom prst="rect">
            <a:avLst/>
          </a:prstGeom>
          <a:solidFill>
            <a:srgbClr val="ffffff"/>
          </a:solidFill>
          <a:ln w="15840">
            <a:solidFill>
              <a:srgbClr val="b7e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Tonnage : 5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Main computer : Mk 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Armour type : 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EW rating :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Shield rating : 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TBD range : 30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Weaponry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Laser cannons: 6, Mk 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Ion cannons: 2, Mk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Plasma gun: 1, Mk 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Matter/Antimatter torpedo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a4"/>
                </a:solidFill>
                <a:latin typeface="Arial"/>
              </a:rPr>
              <a:t>3 tubes, 10 each, Mk 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Reactor : Matter/Antimat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Auxiliary : Fu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Max sublight Accel : 5 km/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Total crew : 3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Guest capacity : 4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Docking berths 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Pressurised/Internal :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Gravitic pads :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a4"/>
                </a:solidFill>
                <a:latin typeface="Arial"/>
              </a:rPr>
              <a:t>External access tubes : 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916360" y="6308640"/>
            <a:ext cx="1218960" cy="2192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3924000" y="3284640"/>
            <a:ext cx="1440000" cy="824040"/>
            <a:chOff x="3924000" y="3284640"/>
            <a:chExt cx="1440000" cy="824040"/>
          </a:xfrm>
        </p:grpSpPr>
        <p:sp>
          <p:nvSpPr>
            <p:cNvPr id="120" name=""/>
            <p:cNvSpPr/>
            <p:nvPr/>
          </p:nvSpPr>
          <p:spPr>
            <a:xfrm>
              <a:off x="4229280" y="3284640"/>
              <a:ext cx="1134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ravitic landing pa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924000" y="386064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84360" y="4292640"/>
            <a:ext cx="1296720" cy="946440"/>
            <a:chOff x="684360" y="4292640"/>
            <a:chExt cx="1296720" cy="946440"/>
          </a:xfrm>
        </p:grpSpPr>
        <p:sp>
          <p:nvSpPr>
            <p:cNvPr id="123" name=""/>
            <p:cNvSpPr/>
            <p:nvPr/>
          </p:nvSpPr>
          <p:spPr>
            <a:xfrm>
              <a:off x="684360" y="4292640"/>
              <a:ext cx="1296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ponics/ Deuterium/ Fluids sto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97600" y="4627800"/>
              <a:ext cx="307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S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144960" cy="4410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403280" y="1413000"/>
            <a:ext cx="2044800" cy="20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1332000" y="1773360"/>
            <a:ext cx="2340000" cy="2098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1692360" y="2852640"/>
            <a:ext cx="1382760" cy="1243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2050920" y="3789360"/>
            <a:ext cx="803520" cy="7700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6300720" y="1916280"/>
            <a:ext cx="2304720" cy="337320"/>
            <a:chOff x="6300720" y="1916280"/>
            <a:chExt cx="2304720" cy="337320"/>
          </a:xfrm>
        </p:grpSpPr>
        <p:sp>
          <p:nvSpPr>
            <p:cNvPr id="132" name=""/>
            <p:cNvSpPr/>
            <p:nvPr/>
          </p:nvSpPr>
          <p:spPr>
            <a:xfrm>
              <a:off x="6876720" y="1916280"/>
              <a:ext cx="17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rydock modu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300720" y="2133360"/>
              <a:ext cx="576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462560" y="3284640"/>
            <a:ext cx="2701800" cy="337320"/>
            <a:chOff x="4462560" y="3284640"/>
            <a:chExt cx="2701800" cy="337320"/>
          </a:xfrm>
        </p:grpSpPr>
        <p:sp>
          <p:nvSpPr>
            <p:cNvPr id="135" name=""/>
            <p:cNvSpPr/>
            <p:nvPr/>
          </p:nvSpPr>
          <p:spPr>
            <a:xfrm>
              <a:off x="4462560" y="3284640"/>
              <a:ext cx="22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ravitic landing pa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51640" y="3429000"/>
              <a:ext cx="612720" cy="71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372000" y="5589360"/>
            <a:ext cx="2233440" cy="441360"/>
            <a:chOff x="6372000" y="5589360"/>
            <a:chExt cx="2233440" cy="441360"/>
          </a:xfrm>
        </p:grpSpPr>
        <p:sp>
          <p:nvSpPr>
            <p:cNvPr id="138" name=""/>
            <p:cNvSpPr/>
            <p:nvPr/>
          </p:nvSpPr>
          <p:spPr>
            <a:xfrm>
              <a:off x="6876720" y="566244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uest modu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6372000" y="5589360"/>
              <a:ext cx="50436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56000" y="5950080"/>
            <a:ext cx="2124000" cy="733320"/>
            <a:chOff x="2556000" y="5950080"/>
            <a:chExt cx="2124000" cy="733320"/>
          </a:xfrm>
        </p:grpSpPr>
        <p:sp>
          <p:nvSpPr>
            <p:cNvPr id="141" name=""/>
            <p:cNvSpPr/>
            <p:nvPr/>
          </p:nvSpPr>
          <p:spPr>
            <a:xfrm>
              <a:off x="2556000" y="5950080"/>
              <a:ext cx="2124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ydroponics/ Deuterium/ Fluids storag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88000" y="616572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  <p:sndAc>
      <p:stSnd>
        <p:snd r:embed="rId7" name="camera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32015E-006 L 0.30555 -0.00926 E">
                                      <p:cBhvr>
                                        <p:cTn id="66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54291E-006 L 0.55712 0.07795 E">
                                      <p:cBhvr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31321E-009 L 0.41267 0.21397 E">
                                      <p:cBhvr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81481E-006 L 0.24757 0.2169 E">
                                      <p:cBhvr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Corrid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2465280" cy="2886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0" t="0" r="0" b="1596"/>
          <a:stretch/>
        </p:blipFill>
        <p:spPr>
          <a:xfrm>
            <a:off x="1619280" y="1212840"/>
            <a:ext cx="6557760" cy="4808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2484360" y="1676520"/>
            <a:ext cx="5896080" cy="3849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788000" y="587700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ypical Corridor s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camera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87393E-006 L 0.36528 -0.00047 E">
                                      <p:cBhvr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528 -0.00047 L 0.00295 -0.00047 E">
                                      <p:cBhvr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se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858960" y="1676520"/>
            <a:ext cx="74246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8154720" cy="3085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4194360" cy="1701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755640" y="2060640"/>
            <a:ext cx="4194360" cy="17319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8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31182E-006 L 0.4243 -0.02105 E">
                                      <p:cBhvr>
                                        <p:cTn id="167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8.21189E-007 L 0.43212 0.03331 E">
                                      <p:cBhvr>
                                        <p:cTn id="169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– Staff 2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8447040" cy="3197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4194360" cy="1731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826920" y="3860640"/>
            <a:ext cx="4194360" cy="17020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92945E-006 L 0.44792 -0.02129 E">
                                      <p:cBhvr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59079E-007 L 0.44011 0.03354 E">
                                      <p:cBhvr>
                                        <p:cTn id="193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Storag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835280" y="1914480"/>
            <a:ext cx="4743360" cy="4943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627280" y="0"/>
            <a:ext cx="3371760" cy="5543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3.80985E-006 L 0.00469 0.15868 E">
                                      <p:cBhvr>
                                        <p:cTn id="21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kaisha Station -- VI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06480" y="1676520"/>
            <a:ext cx="7331040" cy="4422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04:57:53Z</dcterms:created>
  <dc:creator>Curufea Cubelegand</dc:creator>
  <dc:description/>
  <dc:language>en-US</dc:language>
  <cp:lastModifiedBy>Curufea Cubelegand</cp:lastModifiedBy>
  <dcterms:modified xsi:type="dcterms:W3CDTF">2003-11-01T21:03:11Z</dcterms:modified>
  <cp:revision>25</cp:revision>
  <dc:subject/>
  <dc:title>Newton’s First Law</dc:title>
</cp:coreProperties>
</file>