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arrow.wav" ContentType="audio/x-wav"/>
  <Override PartName="/ppt/media/bomb.wav" ContentType="audio/x-wav"/>
  <Override PartName="/ppt/media/image20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7.png" ContentType="image/png"/>
  <Override PartName="/ppt/media/click.wav" ContentType="audio/x-wav"/>
  <Override PartName="/ppt/media/image24.png" ContentType="image/png"/>
  <Override PartName="/ppt/media/image8.png" ContentType="image/png"/>
  <Override PartName="/ppt/media/image26.png" ContentType="image/png"/>
  <Override PartName="/ppt/media/image3.png" ContentType="image/png"/>
  <Override PartName="/ppt/media/image28.png" ContentType="image/png"/>
  <Override PartName="/ppt/media/image5.png" ContentType="image/png"/>
  <Override PartName="/ppt/media/image29.png" ContentType="image/png"/>
  <Override PartName="/ppt/media/image6.png" ContentType="image/png"/>
  <Override PartName="/ppt/media/image17.png" ContentType="image/png"/>
  <Override PartName="/ppt/media/image18.png" ContentType="image/png"/>
  <Override PartName="/ppt/media/type.wav" ContentType="audio/x-wav"/>
  <Override PartName="/ppt/media/camera.wav" ContentType="audio/x-wav"/>
  <Override PartName="/ppt/media/image22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1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30.png" ContentType="image/png"/>
  <Override PartName="/ppt/media/voltag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717-6912-44C7-8D66-9DFA1E1B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5DB-1C63-4020-9382-76AC30D9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2A4-3437-4C00-8BFB-854CFBD5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03E-DEF0-494D-B564-B00D48B8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AFF0-B304-4BE0-A631-903ABCC0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AF0D-520A-40AC-B4BD-25519C30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D454-DF3C-480F-A7A0-9AB489F4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5C8C-C584-44A3-BD9E-5A5DCC97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BD20-B5AF-4CA5-8028-3BD1CDAD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2C36-D7D3-498D-B1D2-EDECFA46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B511-729B-4125-B59E-24A9CF2F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4BC-12D7-47B5-B028-634B0ED0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C8E9-82F7-43C0-92F0-F1BCF5BB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2B19-97FA-4001-A489-988D7C52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901F-4369-4E27-BE82-0F9A27CD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6829-0546-4A47-A5E0-7AF22A8E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3D02-F7C2-4514-9800-B5202367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7C5-2DE1-40C4-9E71-E31F96B2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733A-CAAC-417C-B730-627211C0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787-F3DB-49AE-AA4E-BF078FFC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6F0A-1BD2-49A3-9808-98C4674F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97D6-BB5E-4EF0-A2A9-488E9858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753C-C600-4F38-B266-4A9D5E0D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4E2-75B6-4827-B25F-935D658E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19BF-8326-49FC-A5F9-531B415707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71A2-5A34-4032-9315-EF8DD3CC54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audio" Target="../media/camera.wav"/><Relationship Id="rId7" Type="http://schemas.openxmlformats.org/officeDocument/2006/relationships/audio" Target="../media/suction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audio" Target="../media/suction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audio" Target="../media/bomb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suction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bomb.wav"/><Relationship Id="rId9" Type="http://schemas.openxmlformats.org/officeDocument/2006/relationships/audio" Target="../media/click.wav"/><Relationship Id="rId10" Type="http://schemas.openxmlformats.org/officeDocument/2006/relationships/audio" Target="../media/type.wav"/><Relationship Id="rId11" Type="http://schemas.openxmlformats.org/officeDocument/2006/relationships/audio" Target="../media/click.wav"/><Relationship Id="rId12" Type="http://schemas.openxmlformats.org/officeDocument/2006/relationships/audio" Target="../media/type.wav"/><Relationship Id="rId13" Type="http://schemas.openxmlformats.org/officeDocument/2006/relationships/audio" Target="../media/click.wav"/><Relationship Id="rId14" Type="http://schemas.openxmlformats.org/officeDocument/2006/relationships/audio" Target="../media/type.wav"/><Relationship Id="rId15" Type="http://schemas.openxmlformats.org/officeDocument/2006/relationships/audio" Target="../media/click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audio" Target="../media/camera.wav"/><Relationship Id="rId6" Type="http://schemas.openxmlformats.org/officeDocument/2006/relationships/audio" Target="../media/voltage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camera.wav"/><Relationship Id="rId6" Type="http://schemas.openxmlformats.org/officeDocument/2006/relationships/audio" Target="../media/voltage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camera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ton’s First 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3886200"/>
            <a:ext cx="84960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at rest will stay at rest, and an object in motion w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 in motion in a constant speed and direction, unl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d upon by an outside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2373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kaisha S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kaisha Station – Guest Quart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841480" y="1676520"/>
            <a:ext cx="34610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Guest Ar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27360" y="1676520"/>
            <a:ext cx="36878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Gravitic Pa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4194000" cy="4219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700360" y="3860640"/>
            <a:ext cx="4194000" cy="1947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9325080" y="2133720"/>
            <a:ext cx="2952720" cy="1936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9252000" y="3357720"/>
            <a:ext cx="2952720" cy="981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amera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animMotion origin="layout" path="M 0 -9.25283E-007 L -0.56319 0.00578 E">
                                      <p:cBhvr>
                                        <p:cTn id="219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animMotion origin="layout" path="M -3.88889E-006 -1.72103E-006 L -0.53941 0.00185 E">
                                      <p:cBhvr>
                                        <p:cTn id="243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Doc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042920" y="1676520"/>
            <a:ext cx="705636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87280" y="1773360"/>
            <a:ext cx="1152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189080" y="1676520"/>
            <a:ext cx="676440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52640" y="1676520"/>
            <a:ext cx="703728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720800" y="1676520"/>
            <a:ext cx="570060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771640" y="6165720"/>
            <a:ext cx="1513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-108000" y="1268280"/>
            <a:ext cx="5040360" cy="5329440"/>
            <a:chOff x="-108000" y="1268280"/>
            <a:chExt cx="5040360" cy="5329440"/>
          </a:xfrm>
        </p:grpSpPr>
        <p:sp>
          <p:nvSpPr>
            <p:cNvPr id="87" name=""/>
            <p:cNvSpPr/>
            <p:nvPr/>
          </p:nvSpPr>
          <p:spPr>
            <a:xfrm>
              <a:off x="179280" y="1700280"/>
              <a:ext cx="4392720" cy="4392720"/>
            </a:xfrm>
            <a:prstGeom prst="ellipse">
              <a:avLst/>
            </a:prstGeom>
            <a:noFill/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71640" y="2492280"/>
              <a:ext cx="2881080" cy="2881440"/>
            </a:xfrm>
            <a:prstGeom prst="ellipse">
              <a:avLst/>
            </a:prstGeom>
            <a:noFill/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411280" y="5661000"/>
              <a:ext cx="0" cy="93672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11280" y="1268280"/>
              <a:ext cx="0" cy="165600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21164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-10800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05092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411280" y="3500280"/>
              <a:ext cx="0" cy="72072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54680" cy="44226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987640" y="4076640"/>
            <a:ext cx="2233800" cy="441360"/>
            <a:chOff x="2987640" y="4076640"/>
            <a:chExt cx="2233800" cy="441360"/>
          </a:xfrm>
        </p:grpSpPr>
        <p:sp>
          <p:nvSpPr>
            <p:cNvPr id="98" name=""/>
            <p:cNvSpPr/>
            <p:nvPr/>
          </p:nvSpPr>
          <p:spPr>
            <a:xfrm>
              <a:off x="3492360" y="414972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uest mod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2987640" y="4076640"/>
              <a:ext cx="5047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771640" y="2276640"/>
            <a:ext cx="2160720" cy="368280"/>
            <a:chOff x="2771640" y="2276640"/>
            <a:chExt cx="2160720" cy="368280"/>
          </a:xfrm>
        </p:grpSpPr>
        <p:sp>
          <p:nvSpPr>
            <p:cNvPr id="101" name=""/>
            <p:cNvSpPr/>
            <p:nvPr/>
          </p:nvSpPr>
          <p:spPr>
            <a:xfrm>
              <a:off x="3276720" y="227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ff mod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771640" y="2492280"/>
              <a:ext cx="503280" cy="73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71280" y="1773360"/>
            <a:ext cx="2305440" cy="431640"/>
            <a:chOff x="2771280" y="1773360"/>
            <a:chExt cx="2305440" cy="431640"/>
          </a:xfrm>
        </p:grpSpPr>
        <p:sp>
          <p:nvSpPr>
            <p:cNvPr id="104" name=""/>
            <p:cNvSpPr/>
            <p:nvPr/>
          </p:nvSpPr>
          <p:spPr>
            <a:xfrm>
              <a:off x="3132000" y="17733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ol mod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771280" y="1989000"/>
              <a:ext cx="36036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555640" y="1341360"/>
            <a:ext cx="1511640" cy="432000"/>
            <a:chOff x="2555640" y="1341360"/>
            <a:chExt cx="1511640" cy="432000"/>
          </a:xfrm>
        </p:grpSpPr>
        <p:sp>
          <p:nvSpPr>
            <p:cNvPr id="107" name=""/>
            <p:cNvSpPr/>
            <p:nvPr/>
          </p:nvSpPr>
          <p:spPr>
            <a:xfrm>
              <a:off x="2700360" y="134136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BD Arra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555640" y="1557360"/>
              <a:ext cx="1429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116000" y="1773360"/>
            <a:ext cx="1224000" cy="851400"/>
            <a:chOff x="1116000" y="1773360"/>
            <a:chExt cx="1224000" cy="851400"/>
          </a:xfrm>
        </p:grpSpPr>
        <p:sp>
          <p:nvSpPr>
            <p:cNvPr id="110" name=""/>
            <p:cNvSpPr/>
            <p:nvPr/>
          </p:nvSpPr>
          <p:spPr>
            <a:xfrm>
              <a:off x="1116000" y="177336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nsor wel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31760" y="2412720"/>
              <a:ext cx="408240" cy="212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492360" y="2708280"/>
            <a:ext cx="1584000" cy="580680"/>
            <a:chOff x="3492360" y="2708280"/>
            <a:chExt cx="1584000" cy="580680"/>
          </a:xfrm>
        </p:grpSpPr>
        <p:grpSp>
          <p:nvGrpSpPr>
            <p:cNvPr id="113" name=""/>
            <p:cNvGrpSpPr/>
            <p:nvPr/>
          </p:nvGrpSpPr>
          <p:grpSpPr>
            <a:xfrm>
              <a:off x="3492360" y="2708280"/>
              <a:ext cx="1584000" cy="580680"/>
              <a:chOff x="3492360" y="2708280"/>
              <a:chExt cx="1584000" cy="580680"/>
            </a:xfrm>
          </p:grpSpPr>
          <p:sp>
            <p:nvSpPr>
              <p:cNvPr id="114" name=""/>
              <p:cNvSpPr/>
              <p:nvPr/>
            </p:nvSpPr>
            <p:spPr>
              <a:xfrm>
                <a:off x="3889080" y="2708280"/>
                <a:ext cx="1187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rydock modul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3492360" y="3079800"/>
                <a:ext cx="39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H="1">
              <a:off x="3492360" y="3080160"/>
              <a:ext cx="44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435640" y="1268280"/>
            <a:ext cx="3708360" cy="533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Tonnage : 5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Main computer : Mk 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Armour type : 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EW rating :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Shield rating : 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TBD range : 30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Weaponry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Laser cannons: 6, Mk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Ion cannons: 2, Mk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Plasma gun: 1, Mk 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Matter/Antimatter torpedo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3 tubes, 10 each, Mk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Reactor : Matter/Antimat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Auxiliary : Fu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Max sublight Accel : 5 km/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Total crew : 3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Guest capacity : 4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Docking berths 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Pressurised/Internal :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Gravitic pads :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External access tubes : 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916360" y="6308640"/>
            <a:ext cx="1218960" cy="2192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3924000" y="3284640"/>
            <a:ext cx="1440000" cy="824040"/>
            <a:chOff x="3924000" y="3284640"/>
            <a:chExt cx="1440000" cy="824040"/>
          </a:xfrm>
        </p:grpSpPr>
        <p:sp>
          <p:nvSpPr>
            <p:cNvPr id="120" name=""/>
            <p:cNvSpPr/>
            <p:nvPr/>
          </p:nvSpPr>
          <p:spPr>
            <a:xfrm>
              <a:off x="4229280" y="3284640"/>
              <a:ext cx="1134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avitic landing pa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924000" y="386064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84360" y="4292640"/>
            <a:ext cx="1296720" cy="946440"/>
            <a:chOff x="684360" y="4292640"/>
            <a:chExt cx="1296720" cy="946440"/>
          </a:xfrm>
        </p:grpSpPr>
        <p:sp>
          <p:nvSpPr>
            <p:cNvPr id="123" name=""/>
            <p:cNvSpPr/>
            <p:nvPr/>
          </p:nvSpPr>
          <p:spPr>
            <a:xfrm>
              <a:off x="684360" y="4292640"/>
              <a:ext cx="1296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ponics/ Deuterium/ Fluids 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97600" y="4627800"/>
              <a:ext cx="307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S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44960" cy="4410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403280" y="1413000"/>
            <a:ext cx="2044800" cy="20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332000" y="1773360"/>
            <a:ext cx="2340000" cy="2098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692360" y="2852640"/>
            <a:ext cx="1382760" cy="1243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2050920" y="3789360"/>
            <a:ext cx="803520" cy="7700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6300720" y="1916280"/>
            <a:ext cx="2304720" cy="337320"/>
            <a:chOff x="6300720" y="1916280"/>
            <a:chExt cx="2304720" cy="337320"/>
          </a:xfrm>
        </p:grpSpPr>
        <p:sp>
          <p:nvSpPr>
            <p:cNvPr id="132" name=""/>
            <p:cNvSpPr/>
            <p:nvPr/>
          </p:nvSpPr>
          <p:spPr>
            <a:xfrm>
              <a:off x="6876720" y="1916280"/>
              <a:ext cx="17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rydock modu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300720" y="2133360"/>
              <a:ext cx="57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462560" y="3284640"/>
            <a:ext cx="2701800" cy="337320"/>
            <a:chOff x="4462560" y="3284640"/>
            <a:chExt cx="2701800" cy="337320"/>
          </a:xfrm>
        </p:grpSpPr>
        <p:sp>
          <p:nvSpPr>
            <p:cNvPr id="135" name=""/>
            <p:cNvSpPr/>
            <p:nvPr/>
          </p:nvSpPr>
          <p:spPr>
            <a:xfrm>
              <a:off x="4462560" y="3284640"/>
              <a:ext cx="22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avitic landing pa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51640" y="3429000"/>
              <a:ext cx="612720" cy="71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372000" y="5589360"/>
            <a:ext cx="2233440" cy="441360"/>
            <a:chOff x="6372000" y="5589360"/>
            <a:chExt cx="2233440" cy="441360"/>
          </a:xfrm>
        </p:grpSpPr>
        <p:sp>
          <p:nvSpPr>
            <p:cNvPr id="138" name=""/>
            <p:cNvSpPr/>
            <p:nvPr/>
          </p:nvSpPr>
          <p:spPr>
            <a:xfrm>
              <a:off x="6876720" y="566244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uest mod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6372000" y="5589360"/>
              <a:ext cx="50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56000" y="5950080"/>
            <a:ext cx="2124000" cy="733320"/>
            <a:chOff x="2556000" y="5950080"/>
            <a:chExt cx="2124000" cy="733320"/>
          </a:xfrm>
        </p:grpSpPr>
        <p:sp>
          <p:nvSpPr>
            <p:cNvPr id="141" name=""/>
            <p:cNvSpPr/>
            <p:nvPr/>
          </p:nvSpPr>
          <p:spPr>
            <a:xfrm>
              <a:off x="2556000" y="5950080"/>
              <a:ext cx="212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ponics/ Deuterium/ Fluids 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88000" y="616572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7" name="camera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32015E-006 L 0.30555 -0.00926 E">
                                      <p:cBhvr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54291E-006 L 0.55712 0.07795 E">
                                      <p:cBhvr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31321E-009 L 0.41267 0.21397 E">
                                      <p:cBhvr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81481E-006 L 0.24757 0.2169 E">
                                      <p:cBhvr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Corrid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2465280" cy="2886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0" t="0" r="0" b="1596"/>
          <a:stretch/>
        </p:blipFill>
        <p:spPr>
          <a:xfrm>
            <a:off x="1619280" y="1212840"/>
            <a:ext cx="6557760" cy="4808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484360" y="1676520"/>
            <a:ext cx="5896080" cy="3849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788000" y="587700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ypical Corridor 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87393E-006 L 0.36528 -0.00047 E">
                                      <p:cBhvr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528 -0.00047 L 0.00295 -0.00047 E">
                                      <p:cBhvr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se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58960" y="1676520"/>
            <a:ext cx="74246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8154720" cy="308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4194360" cy="1701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55640" y="2060640"/>
            <a:ext cx="4194360" cy="1731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31182E-006 L 0.4243 -0.02105 E">
                                      <p:cBhvr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8.21189E-007 L 0.43212 0.03331 E">
                                      <p:cBhvr>
                                        <p:cTn id="169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8447040" cy="3197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4194360" cy="1731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826920" y="3860640"/>
            <a:ext cx="4194360" cy="17020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92945E-006 L 0.44792 -0.02129 E">
                                      <p:cBhvr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079E-007 L 0.44011 0.03354 E">
                                      <p:cBhvr>
                                        <p:cTn id="193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Storag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835280" y="1914480"/>
            <a:ext cx="4743360" cy="4943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627280" y="0"/>
            <a:ext cx="3371760" cy="5543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3.80985E-006 L 0.00469 0.15868 E">
                                      <p:cBhvr>
                                        <p:cTn id="21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V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06480" y="1676520"/>
            <a:ext cx="73310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4:57:53Z</dcterms:created>
  <dc:creator>Curufea Cubelegand</dc:creator>
  <dc:description/>
  <dc:language>en-US</dc:language>
  <cp:lastModifiedBy>Curufea Cubelegand</cp:lastModifiedBy>
  <dcterms:modified xsi:type="dcterms:W3CDTF">2003-11-01T21:03:11Z</dcterms:modified>
  <cp:revision>25</cp:revision>
  <dc:subject/>
  <dc:title>Newton’s First Law</dc:title>
</cp:coreProperties>
</file>